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3548-ED02-453F-9A45-CD81BFEB5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114-DAED-499D-831F-A2A14E50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BB7-E8A7-438E-8965-9373B1A3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427-2840-4FF0-A9F7-1B49A6E1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621-815B-4DA1-A680-BC995B25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4D70-44DD-4BB4-8806-DDBC4575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C509-8A71-438C-A04C-42F0872A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51BA-340F-4B4A-86F4-6E159AEE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0EB2-E0C2-4C7C-B3EA-A273BDE4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A9DF-715A-48E5-812E-9EF9DBB5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24EC-745C-4286-953B-8F2447A4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BC81-6F01-4F62-962E-EB956437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782-EE8F-4524-BDAF-7B98C2A4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32A8-F4A0-4EE4-B063-C1FE3861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4376-6AD0-4D4F-B5A6-6EFF4254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D5BC-9EB4-4EC9-9A63-922045B0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158F-D298-4858-B7DF-12925DD4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B1E9-FF7A-4B36-9D53-C394AFF4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AE5-25FB-4211-BC02-02BE23B5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BCE-047E-43A4-9D15-02C417C0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D5B-7A4E-446E-9D42-C8D8915E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4D0-D730-468D-BD1F-B712BDF0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CCC-B692-4520-951E-E494ABFA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432-01F7-4FAD-94C8-528D80FB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7CC-0B26-4158-B947-A46B185D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81B8-60DE-45F3-BC45-C10F8E366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D21E-AFFB-4013-8693-D4D0FFC34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goda.com/" TargetMode="External"/><Relationship Id="rId2" Type="http://schemas.openxmlformats.org/officeDocument/2006/relationships/hyperlink" Target="http://www.hyatt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HOTEL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42600" y="30715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Guest Market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Melior_Business_School.PNG"/>
          <p:cNvPicPr/>
          <p:nvPr/>
        </p:nvPicPr>
        <p:blipFill>
          <a:blip r:embed="rId1"/>
          <a:stretch/>
        </p:blipFill>
        <p:spPr>
          <a:xfrm>
            <a:off x="2714760" y="357120"/>
            <a:ext cx="327312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booking cyc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time between when the individual reservation is made and when it is due to arri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as the group base can be reserved far in advance, the individual booking cycle can be more short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alk-in reserv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made by guests arriving unannounced at a hotel and cannot be measured as part of the booking cycle as they are hard to predi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v Transient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group and transient makeup of a hotel depends on many factors including location type, service level, target market, size and other fac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ample relationship at a fictitious downtown hotel is as follow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2955960" y="3683160"/>
            <a:ext cx="3200400" cy="2193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955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413160" y="4689360"/>
            <a:ext cx="457200" cy="11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3870360" y="4322880"/>
            <a:ext cx="457200" cy="1554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327560" y="4505400"/>
            <a:ext cx="45720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784760" y="5146560"/>
            <a:ext cx="457200" cy="730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41960" y="5054760"/>
            <a:ext cx="457200" cy="82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5699160" y="5419800"/>
            <a:ext cx="4572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411280" y="50878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411280" y="46306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411280" y="41734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411280" y="37162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2411280" y="5545080"/>
            <a:ext cx="64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18"/>
          <p:cNvSpPr/>
          <p:nvPr/>
        </p:nvSpPr>
        <p:spPr>
          <a:xfrm rot="16200000">
            <a:off x="1224720" y="46274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umber of Hotel Sleeping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2544840" y="293976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1"/>
          <p:cNvSpPr/>
          <p:nvPr/>
        </p:nvSpPr>
        <p:spPr>
          <a:xfrm>
            <a:off x="2971800" y="585252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    T     W    T     F     S    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4859280" y="407664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3419640" y="5373720"/>
            <a:ext cx="1223640" cy="246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7740720" y="595008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3-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hotel that wants to minimise the opportunity cost associated with transient sleeping room sales will incorporate as man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rvation avenu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ervation avenue is defined as the means by which a guest is able to make a reservation at a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eater the access guests have to specific hotels, the more likely they are to 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nsient Reservation Avenues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most common reservation avenues 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DS system (Global Distribu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S (Central Reservation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travel agent or travel management company cont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guest contra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DS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lobal Distribution System (GDS) is a network of travel and hospitality entities that communicate via an integrated computer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puter systems were developed by airlines to link their availability to travel ag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fee agreements hotels and car rental companies now also link their individual products to the GDS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ntral reservation systems provides the customer with an avenue to locate a hotel of choice in a certain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n easy to find toll free number such as 1800-hotels-1 or Web site such as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www.agoda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hyatt.c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CRS can generate demand for a hotel through pricing OR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avel Agent or Travel Management Compani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in the transient reservation process, travel agents and travel management companies act as intermediaries, making money in one of two way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They may charge a fl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ment f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They are paid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i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rect Guest Contac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s themselves can make a reservation via phone, fax or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offer a direct booking capability on their websi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eservation Avenu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31"/>
          <p:cNvSpPr/>
          <p:nvPr/>
        </p:nvSpPr>
        <p:spPr>
          <a:xfrm>
            <a:off x="3348000" y="211608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nsient G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32"/>
          <p:cNvSpPr/>
          <p:nvPr/>
        </p:nvSpPr>
        <p:spPr>
          <a:xfrm>
            <a:off x="3348000" y="515772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33"/>
          <p:cNvSpPr/>
          <p:nvPr/>
        </p:nvSpPr>
        <p:spPr>
          <a:xfrm>
            <a:off x="755640" y="2836800"/>
            <a:ext cx="2376360" cy="580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vel Mgmt Co or Travel Ag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34"/>
          <p:cNvSpPr/>
          <p:nvPr/>
        </p:nvSpPr>
        <p:spPr>
          <a:xfrm>
            <a:off x="5940360" y="3629160"/>
            <a:ext cx="237672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755640" y="4276800"/>
            <a:ext cx="23763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36"/>
          <p:cNvSpPr/>
          <p:nvPr/>
        </p:nvSpPr>
        <p:spPr>
          <a:xfrm>
            <a:off x="5724360" y="2349360"/>
            <a:ext cx="1522440" cy="1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37"/>
          <p:cNvSpPr/>
          <p:nvPr/>
        </p:nvSpPr>
        <p:spPr>
          <a:xfrm flipH="1">
            <a:off x="7236000" y="2351160"/>
            <a:ext cx="10800" cy="12938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38"/>
          <p:cNvSpPr/>
          <p:nvPr/>
        </p:nvSpPr>
        <p:spPr>
          <a:xfrm>
            <a:off x="7236000" y="4005360"/>
            <a:ext cx="0" cy="1368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39"/>
          <p:cNvSpPr/>
          <p:nvPr/>
        </p:nvSpPr>
        <p:spPr>
          <a:xfrm flipH="1">
            <a:off x="5724360" y="5373720"/>
            <a:ext cx="15098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40"/>
          <p:cNvSpPr/>
          <p:nvPr/>
        </p:nvSpPr>
        <p:spPr>
          <a:xfrm>
            <a:off x="442764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41"/>
          <p:cNvSpPr/>
          <p:nvPr/>
        </p:nvSpPr>
        <p:spPr>
          <a:xfrm>
            <a:off x="5075280" y="2492280"/>
            <a:ext cx="0" cy="2665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42"/>
          <p:cNvSpPr/>
          <p:nvPr/>
        </p:nvSpPr>
        <p:spPr>
          <a:xfrm>
            <a:off x="3132000" y="2924280"/>
            <a:ext cx="57636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43"/>
          <p:cNvSpPr/>
          <p:nvPr/>
        </p:nvSpPr>
        <p:spPr>
          <a:xfrm flipH="1">
            <a:off x="3704760" y="2924280"/>
            <a:ext cx="3240" cy="2233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44"/>
          <p:cNvSpPr/>
          <p:nvPr/>
        </p:nvSpPr>
        <p:spPr>
          <a:xfrm flipH="1">
            <a:off x="1753920" y="2276640"/>
            <a:ext cx="1593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45"/>
          <p:cNvSpPr/>
          <p:nvPr/>
        </p:nvSpPr>
        <p:spPr>
          <a:xfrm flipH="1">
            <a:off x="1754280" y="2276640"/>
            <a:ext cx="9360" cy="57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46"/>
          <p:cNvSpPr/>
          <p:nvPr/>
        </p:nvSpPr>
        <p:spPr>
          <a:xfrm>
            <a:off x="1762200" y="3429000"/>
            <a:ext cx="1440" cy="863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47"/>
          <p:cNvSpPr/>
          <p:nvPr/>
        </p:nvSpPr>
        <p:spPr>
          <a:xfrm>
            <a:off x="1752480" y="4653000"/>
            <a:ext cx="11160" cy="720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1754280" y="5372280"/>
            <a:ext cx="159372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49"/>
          <p:cNvSpPr/>
          <p:nvPr/>
        </p:nvSpPr>
        <p:spPr>
          <a:xfrm rot="16200000">
            <a:off x="3084120" y="34909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Phone or Fa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0"/>
          <p:cNvSpPr/>
          <p:nvPr/>
        </p:nvSpPr>
        <p:spPr>
          <a:xfrm rot="16200000">
            <a:off x="3731760" y="320220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ia Intern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7667640" y="589104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ortion or segment of the actual or potential business mix at any given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ing this business pool into segments with similar characteristics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corporate, association and SMER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s are business and pleas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Typical Lodging Gu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39"/>
          <p:cNvGrpSpPr/>
          <p:nvPr/>
        </p:nvGrpSpPr>
        <p:grpSpPr>
          <a:xfrm>
            <a:off x="271440" y="2362320"/>
            <a:ext cx="8339040" cy="761760"/>
            <a:chOff x="271440" y="2362320"/>
            <a:chExt cx="8339040" cy="761760"/>
          </a:xfrm>
        </p:grpSpPr>
        <p:sp>
          <p:nvSpPr>
            <p:cNvPr id="97" name="Text Box 4"/>
            <p:cNvSpPr/>
            <p:nvPr/>
          </p:nvSpPr>
          <p:spPr>
            <a:xfrm>
              <a:off x="533520" y="243828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8" name="Group 31"/>
            <p:cNvGrpSpPr/>
            <p:nvPr/>
          </p:nvGrpSpPr>
          <p:grpSpPr>
            <a:xfrm>
              <a:off x="271440" y="2362320"/>
              <a:ext cx="2014560" cy="761760"/>
              <a:chOff x="271440" y="2362320"/>
              <a:chExt cx="2014560" cy="761760"/>
            </a:xfrm>
          </p:grpSpPr>
          <p:sp>
            <p:nvSpPr>
              <p:cNvPr id="99" name="Rectangle 7"/>
              <p:cNvSpPr/>
              <p:nvPr/>
            </p:nvSpPr>
            <p:spPr>
              <a:xfrm>
                <a:off x="271440" y="2362320"/>
                <a:ext cx="198108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Text Box 8"/>
              <p:cNvSpPr/>
              <p:nvPr/>
            </p:nvSpPr>
            <p:spPr>
              <a:xfrm>
                <a:off x="304920" y="257184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8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1" name="Group 35"/>
            <p:cNvGrpSpPr/>
            <p:nvPr/>
          </p:nvGrpSpPr>
          <p:grpSpPr>
            <a:xfrm>
              <a:off x="2324160" y="2362320"/>
              <a:ext cx="5905440" cy="761760"/>
              <a:chOff x="2324160" y="2362320"/>
              <a:chExt cx="5905440" cy="761760"/>
            </a:xfrm>
          </p:grpSpPr>
          <p:sp>
            <p:nvSpPr>
              <p:cNvPr id="102" name="Rectangle 9"/>
              <p:cNvSpPr/>
              <p:nvPr/>
            </p:nvSpPr>
            <p:spPr>
              <a:xfrm>
                <a:off x="2324160" y="2362320"/>
                <a:ext cx="5905440" cy="76176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Text Box 13"/>
              <p:cNvSpPr/>
              <p:nvPr/>
            </p:nvSpPr>
            <p:spPr>
              <a:xfrm>
                <a:off x="2400480" y="251460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nsient business travelers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4" name="Group 40"/>
          <p:cNvGrpSpPr/>
          <p:nvPr/>
        </p:nvGrpSpPr>
        <p:grpSpPr>
          <a:xfrm>
            <a:off x="271440" y="3200400"/>
            <a:ext cx="8339040" cy="762120"/>
            <a:chOff x="271440" y="3200400"/>
            <a:chExt cx="8339040" cy="762120"/>
          </a:xfrm>
        </p:grpSpPr>
        <p:sp>
          <p:nvSpPr>
            <p:cNvPr id="105" name="Text Box 14"/>
            <p:cNvSpPr/>
            <p:nvPr/>
          </p:nvSpPr>
          <p:spPr>
            <a:xfrm>
              <a:off x="533520" y="327672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Group 32"/>
            <p:cNvGrpSpPr/>
            <p:nvPr/>
          </p:nvGrpSpPr>
          <p:grpSpPr>
            <a:xfrm>
              <a:off x="271440" y="3200400"/>
              <a:ext cx="2014560" cy="762120"/>
              <a:chOff x="271440" y="3200400"/>
              <a:chExt cx="2014560" cy="762120"/>
            </a:xfrm>
          </p:grpSpPr>
          <p:sp>
            <p:nvSpPr>
              <p:cNvPr id="107" name="Rectangle 15"/>
              <p:cNvSpPr/>
              <p:nvPr/>
            </p:nvSpPr>
            <p:spPr>
              <a:xfrm>
                <a:off x="271440" y="320040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Text Box 16"/>
              <p:cNvSpPr/>
              <p:nvPr/>
            </p:nvSpPr>
            <p:spPr>
              <a:xfrm>
                <a:off x="304920" y="340992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5.3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36"/>
            <p:cNvGrpSpPr/>
            <p:nvPr/>
          </p:nvGrpSpPr>
          <p:grpSpPr>
            <a:xfrm>
              <a:off x="2324160" y="3200400"/>
              <a:ext cx="5905440" cy="762120"/>
              <a:chOff x="2324160" y="3200400"/>
              <a:chExt cx="5905440" cy="762120"/>
            </a:xfrm>
          </p:grpSpPr>
          <p:sp>
            <p:nvSpPr>
              <p:cNvPr id="110" name="Rectangle 17"/>
              <p:cNvSpPr/>
              <p:nvPr/>
            </p:nvSpPr>
            <p:spPr>
              <a:xfrm>
                <a:off x="2324160" y="320040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2400480" y="335268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attending a conference/group meeting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12" name="Group 41"/>
          <p:cNvGrpSpPr/>
          <p:nvPr/>
        </p:nvGrpSpPr>
        <p:grpSpPr>
          <a:xfrm>
            <a:off x="271440" y="4038480"/>
            <a:ext cx="8339040" cy="762120"/>
            <a:chOff x="271440" y="4038480"/>
            <a:chExt cx="8339040" cy="762120"/>
          </a:xfrm>
        </p:grpSpPr>
        <p:sp>
          <p:nvSpPr>
            <p:cNvPr id="113" name="Text Box 19"/>
            <p:cNvSpPr/>
            <p:nvPr/>
          </p:nvSpPr>
          <p:spPr>
            <a:xfrm>
              <a:off x="533520" y="41148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4" name="Group 33"/>
            <p:cNvGrpSpPr/>
            <p:nvPr/>
          </p:nvGrpSpPr>
          <p:grpSpPr>
            <a:xfrm>
              <a:off x="271440" y="4038480"/>
              <a:ext cx="2014560" cy="762120"/>
              <a:chOff x="271440" y="4038480"/>
              <a:chExt cx="2014560" cy="762120"/>
            </a:xfrm>
          </p:grpSpPr>
          <p:sp>
            <p:nvSpPr>
              <p:cNvPr id="115" name="Rectangle 20"/>
              <p:cNvSpPr/>
              <p:nvPr/>
            </p:nvSpPr>
            <p:spPr>
              <a:xfrm>
                <a:off x="271440" y="40384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Text Box 21"/>
              <p:cNvSpPr/>
              <p:nvPr/>
            </p:nvSpPr>
            <p:spPr>
              <a:xfrm>
                <a:off x="304920" y="42480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4.6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Group 37"/>
            <p:cNvGrpSpPr/>
            <p:nvPr/>
          </p:nvGrpSpPr>
          <p:grpSpPr>
            <a:xfrm>
              <a:off x="2324160" y="4038480"/>
              <a:ext cx="5905440" cy="762120"/>
              <a:chOff x="2324160" y="4038480"/>
              <a:chExt cx="5905440" cy="762120"/>
            </a:xfrm>
          </p:grpSpPr>
          <p:sp>
            <p:nvSpPr>
              <p:cNvPr id="118" name="Rectangle 22"/>
              <p:cNvSpPr/>
              <p:nvPr/>
            </p:nvSpPr>
            <p:spPr>
              <a:xfrm>
                <a:off x="2324160" y="40384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Text Box 23"/>
              <p:cNvSpPr/>
              <p:nvPr/>
            </p:nvSpPr>
            <p:spPr>
              <a:xfrm>
                <a:off x="2400480" y="4191120"/>
                <a:ext cx="563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on vacation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0" name="Group 42"/>
          <p:cNvGrpSpPr/>
          <p:nvPr/>
        </p:nvGrpSpPr>
        <p:grpSpPr>
          <a:xfrm>
            <a:off x="271440" y="4896000"/>
            <a:ext cx="8339040" cy="819000"/>
            <a:chOff x="271440" y="4896000"/>
            <a:chExt cx="8339040" cy="819000"/>
          </a:xfrm>
        </p:grpSpPr>
        <p:sp>
          <p:nvSpPr>
            <p:cNvPr id="121" name="Text Box 24"/>
            <p:cNvSpPr/>
            <p:nvPr/>
          </p:nvSpPr>
          <p:spPr>
            <a:xfrm>
              <a:off x="533520" y="5029200"/>
              <a:ext cx="807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2" name="Group 34"/>
            <p:cNvGrpSpPr/>
            <p:nvPr/>
          </p:nvGrpSpPr>
          <p:grpSpPr>
            <a:xfrm>
              <a:off x="271440" y="4952880"/>
              <a:ext cx="2014560" cy="762120"/>
              <a:chOff x="271440" y="4952880"/>
              <a:chExt cx="2014560" cy="762120"/>
            </a:xfrm>
          </p:grpSpPr>
          <p:sp>
            <p:nvSpPr>
              <p:cNvPr id="123" name="Rectangle 25"/>
              <p:cNvSpPr/>
              <p:nvPr/>
            </p:nvSpPr>
            <p:spPr>
              <a:xfrm>
                <a:off x="271440" y="4952880"/>
                <a:ext cx="198108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Text Box 26"/>
              <p:cNvSpPr/>
              <p:nvPr/>
            </p:nvSpPr>
            <p:spPr>
              <a:xfrm>
                <a:off x="304920" y="516240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21.8%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5" name="Group 38"/>
            <p:cNvGrpSpPr/>
            <p:nvPr/>
          </p:nvGrpSpPr>
          <p:grpSpPr>
            <a:xfrm>
              <a:off x="2324160" y="4896000"/>
              <a:ext cx="5905440" cy="819000"/>
              <a:chOff x="2324160" y="4896000"/>
              <a:chExt cx="5905440" cy="819000"/>
            </a:xfrm>
          </p:grpSpPr>
          <p:sp>
            <p:nvSpPr>
              <p:cNvPr id="126" name="Rectangle 27"/>
              <p:cNvSpPr/>
              <p:nvPr/>
            </p:nvSpPr>
            <p:spPr>
              <a:xfrm>
                <a:off x="2324160" y="4952880"/>
                <a:ext cx="5905440" cy="76212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Text Box 28"/>
              <p:cNvSpPr/>
              <p:nvPr/>
            </p:nvSpPr>
            <p:spPr>
              <a:xfrm>
                <a:off x="2400480" y="4896000"/>
                <a:ext cx="563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are traveling for other reasons (for example, personal, family, or special event)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pora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rket segment consists of for-profit companies and frequently pays higher rates than other segments to ensure quality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oci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et segment consists of groups of individuals or companies that share common purposes or goals, and is more cost-conscious than the corporate seg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Market Segments (Cont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SMERF segment consists of groups that have characteristics that set them apart from the previous two categories, and has five primary compon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0000" y="3457440"/>
          <a:ext cx="7272360" cy="2347920"/>
        </p:xfrm>
        <a:graphic>
          <a:graphicData uri="http://schemas.openxmlformats.org/drawingml/2006/table">
            <a:tbl>
              <a:tblPr/>
              <a:tblGrid>
                <a:gridCol w="3000600"/>
                <a:gridCol w="42717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dings, Proms, Fund Raisers,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unions, Award Ceremo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c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uing Education, Classes,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gio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vals, Enlightenment Gather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ter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ternities, Soror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sine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is one who stays at a hotel because of its location in relation to another organis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usiness guest makes his/her hotel choice based on many factors, but one of the most common is brand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hotels offer various incentives for guest loyal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Segment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easu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uest stays at  hotel because of its proximity to an attraction and/or because of a signature attraction at the hotel itsel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gnature attraction is an event, activity or facility identified with a specific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Room Dema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llowing figure illustrates how both group and transient market segments come together to make up guest room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4" descr="j0310022[1]"/>
          <p:cNvPicPr/>
          <p:nvPr/>
        </p:nvPicPr>
        <p:blipFill>
          <a:blip r:embed="rId1"/>
          <a:stretch/>
        </p:blipFill>
        <p:spPr>
          <a:xfrm>
            <a:off x="3203640" y="2997360"/>
            <a:ext cx="2720880" cy="30668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4067280" y="3689280"/>
            <a:ext cx="1008000" cy="1110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t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ues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m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6"/>
          <p:cNvSpPr/>
          <p:nvPr/>
        </p:nvSpPr>
        <p:spPr>
          <a:xfrm>
            <a:off x="826920" y="3141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826920" y="4149720"/>
            <a:ext cx="136872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826920" y="5302080"/>
            <a:ext cx="136872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6732720" y="4797360"/>
            <a:ext cx="136836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6732720" y="3430440"/>
            <a:ext cx="1368360" cy="64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2124000" y="364500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219564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13"/>
          <p:cNvSpPr/>
          <p:nvPr/>
        </p:nvSpPr>
        <p:spPr>
          <a:xfrm flipV="1">
            <a:off x="2052720" y="4581000"/>
            <a:ext cx="5745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6444720" y="393372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15"/>
          <p:cNvSpPr/>
          <p:nvPr/>
        </p:nvSpPr>
        <p:spPr>
          <a:xfrm flipH="1" flipV="1">
            <a:off x="6444720" y="450972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34800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17"/>
          <p:cNvSpPr/>
          <p:nvPr/>
        </p:nvSpPr>
        <p:spPr>
          <a:xfrm flipH="1">
            <a:off x="5365440" y="4438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653080" y="42940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6950160" y="4941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leas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6877080" y="35733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2700360" y="42926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1116000" y="54594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MER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900000" y="4365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971640" y="335772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7667640" y="5950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3-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32"/>
          <p:cNvGrpSpPr/>
          <p:nvPr/>
        </p:nvGrpSpPr>
        <p:grpSpPr>
          <a:xfrm>
            <a:off x="380880" y="1181160"/>
            <a:ext cx="8229600" cy="1085760"/>
            <a:chOff x="380880" y="1181160"/>
            <a:chExt cx="8229600" cy="1085760"/>
          </a:xfrm>
        </p:grpSpPr>
        <p:sp>
          <p:nvSpPr>
            <p:cNvPr id="129" name="Rectangle 7"/>
            <p:cNvSpPr/>
            <p:nvPr/>
          </p:nvSpPr>
          <p:spPr>
            <a:xfrm>
              <a:off x="380880" y="1181160"/>
              <a:ext cx="8229600" cy="108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0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06520" y="1273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9"/>
            <p:cNvSpPr/>
            <p:nvPr/>
          </p:nvSpPr>
          <p:spPr>
            <a:xfrm>
              <a:off x="1058760" y="125424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mphasis on safety, cleanliness &amp; servic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uests also consider “intangible” aspects of the purcha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Lodging Industry Character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33"/>
          <p:cNvGrpSpPr/>
          <p:nvPr/>
        </p:nvGrpSpPr>
        <p:grpSpPr>
          <a:xfrm>
            <a:off x="380880" y="2308320"/>
            <a:ext cx="8229600" cy="815760"/>
            <a:chOff x="380880" y="2308320"/>
            <a:chExt cx="8229600" cy="815760"/>
          </a:xfrm>
        </p:grpSpPr>
        <p:sp>
          <p:nvSpPr>
            <p:cNvPr id="134" name="Rectangle 18"/>
            <p:cNvSpPr/>
            <p:nvPr/>
          </p:nvSpPr>
          <p:spPr>
            <a:xfrm>
              <a:off x="380880" y="2308320"/>
              <a:ext cx="8229600" cy="8157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5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06520" y="240012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0"/>
            <p:cNvSpPr/>
            <p:nvPr/>
          </p:nvSpPr>
          <p:spPr>
            <a:xfrm>
              <a:off x="1058760" y="2381040"/>
              <a:ext cx="739944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separability of manufacture &amp; sal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buClr>
                  <a:srgbClr val="00000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 room exists &amp; is sold at the same sit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34"/>
          <p:cNvGrpSpPr/>
          <p:nvPr/>
        </p:nvGrpSpPr>
        <p:grpSpPr>
          <a:xfrm>
            <a:off x="380880" y="3200400"/>
            <a:ext cx="8229600" cy="1044720"/>
            <a:chOff x="380880" y="3200400"/>
            <a:chExt cx="8229600" cy="1044720"/>
          </a:xfrm>
        </p:grpSpPr>
        <p:sp>
          <p:nvSpPr>
            <p:cNvPr id="138" name="Rectangle 21"/>
            <p:cNvSpPr/>
            <p:nvPr/>
          </p:nvSpPr>
          <p:spPr>
            <a:xfrm>
              <a:off x="380880" y="3200400"/>
              <a:ext cx="8229600" cy="1044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3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06520" y="325440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23"/>
            <p:cNvSpPr/>
            <p:nvPr/>
          </p:nvSpPr>
          <p:spPr>
            <a:xfrm>
              <a:off x="1058760" y="325440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rishabil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If a room is not rented on a specific date, the revenue i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ost forev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1" name="Group 35"/>
          <p:cNvGrpSpPr/>
          <p:nvPr/>
        </p:nvGrpSpPr>
        <p:grpSpPr>
          <a:xfrm>
            <a:off x="380880" y="4308480"/>
            <a:ext cx="8229600" cy="720720"/>
            <a:chOff x="380880" y="4308480"/>
            <a:chExt cx="8229600" cy="720720"/>
          </a:xfrm>
        </p:grpSpPr>
        <p:sp>
          <p:nvSpPr>
            <p:cNvPr id="142" name="Rectangle 24"/>
            <p:cNvSpPr/>
            <p:nvPr/>
          </p:nvSpPr>
          <p:spPr>
            <a:xfrm>
              <a:off x="380880" y="4308480"/>
              <a:ext cx="8229600" cy="720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3" name="Picture 25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06520" y="44006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6"/>
            <p:cNvSpPr/>
            <p:nvPr/>
          </p:nvSpPr>
          <p:spPr>
            <a:xfrm>
              <a:off x="1058760" y="4381560"/>
              <a:ext cx="7399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petitivene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Some operating procedures are routin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6"/>
          <p:cNvGrpSpPr/>
          <p:nvPr/>
        </p:nvGrpSpPr>
        <p:grpSpPr>
          <a:xfrm>
            <a:off x="380880" y="5032440"/>
            <a:ext cx="8229600" cy="1063440"/>
            <a:chOff x="380880" y="5032440"/>
            <a:chExt cx="8229600" cy="1063440"/>
          </a:xfrm>
        </p:grpSpPr>
        <p:sp>
          <p:nvSpPr>
            <p:cNvPr id="146" name="Rectangle 27"/>
            <p:cNvSpPr/>
            <p:nvPr/>
          </p:nvSpPr>
          <p:spPr>
            <a:xfrm>
              <a:off x="380880" y="5032440"/>
              <a:ext cx="8229600" cy="1063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7" name="Picture 2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06520" y="512460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9"/>
            <p:cNvSpPr/>
            <p:nvPr/>
          </p:nvSpPr>
          <p:spPr>
            <a:xfrm>
              <a:off x="1058760" y="5105520"/>
              <a:ext cx="739944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Labor Intensiv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- Much of a hotel’s daily work involves employe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viding servic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7"/>
          <p:cNvGrpSpPr/>
          <p:nvPr/>
        </p:nvGrpSpPr>
        <p:grpSpPr>
          <a:xfrm>
            <a:off x="457200" y="4876920"/>
            <a:ext cx="8153280" cy="1199880"/>
            <a:chOff x="457200" y="4876920"/>
            <a:chExt cx="8153280" cy="1199880"/>
          </a:xfrm>
        </p:grpSpPr>
        <p:sp>
          <p:nvSpPr>
            <p:cNvPr id="150" name="Rectangle 28"/>
            <p:cNvSpPr/>
            <p:nvPr/>
          </p:nvSpPr>
          <p:spPr>
            <a:xfrm>
              <a:off x="457200" y="4876920"/>
              <a:ext cx="8153280" cy="1199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1" name="Picture 3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609480" y="514332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1"/>
            <p:cNvSpPr/>
            <p:nvPr/>
          </p:nvSpPr>
          <p:spPr>
            <a:xfrm>
              <a:off x="1009800" y="5060880"/>
              <a:ext cx="74484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ous amenities (e.g., business centers) increase costs for hotel owners yet sometimes appeal to only a small segment of the hotel’s market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3" name="Group 36"/>
          <p:cNvGrpSpPr/>
          <p:nvPr/>
        </p:nvGrpSpPr>
        <p:grpSpPr>
          <a:xfrm>
            <a:off x="457200" y="3657600"/>
            <a:ext cx="8153280" cy="914400"/>
            <a:chOff x="457200" y="3657600"/>
            <a:chExt cx="8153280" cy="914400"/>
          </a:xfrm>
        </p:grpSpPr>
        <p:sp>
          <p:nvSpPr>
            <p:cNvPr id="154" name="Rectangle 24"/>
            <p:cNvSpPr/>
            <p:nvPr/>
          </p:nvSpPr>
          <p:spPr>
            <a:xfrm>
              <a:off x="457200" y="365760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5" name="Picture 26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609480" y="3924360"/>
              <a:ext cx="36828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27"/>
            <p:cNvSpPr/>
            <p:nvPr/>
          </p:nvSpPr>
          <p:spPr>
            <a:xfrm>
              <a:off x="1009800" y="389880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sults in a more competitive selling environment for hoteliers (e.g., online room booking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35"/>
          <p:cNvGrpSpPr/>
          <p:nvPr/>
        </p:nvGrpSpPr>
        <p:grpSpPr>
          <a:xfrm>
            <a:off x="457200" y="2587680"/>
            <a:ext cx="8153280" cy="914400"/>
            <a:chOff x="457200" y="2587680"/>
            <a:chExt cx="8153280" cy="914400"/>
          </a:xfrm>
        </p:grpSpPr>
        <p:sp>
          <p:nvSpPr>
            <p:cNvPr id="158" name="Rectangle 20"/>
            <p:cNvSpPr/>
            <p:nvPr/>
          </p:nvSpPr>
          <p:spPr>
            <a:xfrm>
              <a:off x="457200" y="2587680"/>
              <a:ext cx="81532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9" name="Picture 22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609480" y="285444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23"/>
            <p:cNvSpPr/>
            <p:nvPr/>
          </p:nvSpPr>
          <p:spPr>
            <a:xfrm>
              <a:off x="1009800" y="2829240"/>
              <a:ext cx="7448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he more  the number of brands increase, the harder consumers find it to differentiate between them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" name="Group 34"/>
          <p:cNvGrpSpPr/>
          <p:nvPr/>
        </p:nvGrpSpPr>
        <p:grpSpPr>
          <a:xfrm>
            <a:off x="457200" y="1428840"/>
            <a:ext cx="8153280" cy="895320"/>
            <a:chOff x="457200" y="1428840"/>
            <a:chExt cx="8153280" cy="895320"/>
          </a:xfrm>
        </p:grpSpPr>
        <p:sp>
          <p:nvSpPr>
            <p:cNvPr id="162" name="Rectangle 4"/>
            <p:cNvSpPr/>
            <p:nvPr/>
          </p:nvSpPr>
          <p:spPr>
            <a:xfrm>
              <a:off x="457200" y="1428840"/>
              <a:ext cx="8153280" cy="895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3" name="Picture 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609480" y="1771560"/>
              <a:ext cx="3682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7"/>
            <p:cNvSpPr/>
            <p:nvPr/>
          </p:nvSpPr>
          <p:spPr>
            <a:xfrm>
              <a:off x="1009800" y="1670040"/>
              <a:ext cx="74484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fforts to focus on a highly defined, smaller group of travelers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5" name="Text Box 5"/>
          <p:cNvSpPr/>
          <p:nvPr/>
        </p:nvSpPr>
        <p:spPr>
          <a:xfrm>
            <a:off x="457200" y="1200240"/>
            <a:ext cx="4876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rket segmentation is incre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Current Issues confronting Hoteliers: Marketing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57200" y="2362320"/>
            <a:ext cx="25909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nds overl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457200" y="3505320"/>
            <a:ext cx="533412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sophistication of consu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457200" y="4648320"/>
            <a:ext cx="4267080" cy="3405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d number of amen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nt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Reservation Aven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ent Market Seg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oom Sales Differentiatio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catering contribution plays an important role in food and beverage revenue and also impacts the sleeping room portion of the hotel success triangle (see tex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upancy is the measurement of room sales verses available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ooms that are sold fall into two categories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ans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bination of these two groups makes up the hotel’s occup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 roo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iginate from reservations that are made to bring more than one guest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 rooms involve a series of bookings that correspond to specific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consider bookings of 10 or more rooms per night a group boo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rpose of the group room sales effort is to seek group bookings and bring them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roup Rooms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 sales is counted upon to fill a certain number of hotel rooms per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base is the measurement of how many group rooms are “on the books” on a given n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groups can be booked far in advance, they are sought af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important to note that group rooms are often offered at lower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ansient Room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rooms that originate from individual 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ient rooms are non-group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differ from group rooms as there is no way to predict when these guests will arr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dicting the level of individual reservations on any given night is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ing at historical data helps in determining the most likely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2T03:27:05Z</dcterms:modified>
  <cp:revision>100</cp:revision>
  <dc:subject/>
  <dc:title>FRONT OFFICE OPERATIONS MANAGEMENT</dc:title>
</cp:coreProperties>
</file>